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9DC-0E73-4D9D-AA0A-DC788B8A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CFD-BE48-4EA6-A10B-353B54B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7D0-45D0-4EA3-8355-B4EC4FD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B10-8EF8-43C4-8771-1BD1FC1B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24AC-3D4B-43C0-B0F2-F4B9D406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263-9E0A-4B8F-9A57-59F8C634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9D9C-5577-4445-85C8-B950AAD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E136-410E-44B8-93ED-282CAB2F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5879-A4AC-448F-BD4C-4C8469CA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BE5-EE05-4FE7-8244-3C60A8E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4151-EAEB-4A7F-8C07-5CCB6B3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4ED-6E0D-4DEE-A181-AFCAAA3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7C4D-9845-4E51-9B0A-46E09E9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BE4-28E8-495B-8174-D32DBF1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0FF4-C01F-4D8C-9C80-B3DCC58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8999-31F8-4417-B523-C0F3E6F4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599-802F-4E35-8BEB-6F46EEBE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1438-9010-4E2A-85B8-538C9E84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733B-F5DB-421D-BD31-2BDBB19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A12A-1BCB-471F-87F0-E8BE7BC6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9378-B27C-416B-AE87-630EA953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5252-5AEC-4E65-BFB8-03A3862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1BB-A049-4E0A-8811-514D15B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EC2F-2084-4638-A191-0F89856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7B74-DE1A-4665-804A-5199B0F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4205-1076-419E-B64B-93F1EEA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1AEB-4D57-49D5-9549-87DD344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B296-93CA-4DC4-AD6B-7EE4394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69DD-AFCB-49A7-858B-BDEFAC45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312D-AAE2-4E7F-B6A8-F4DDE292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03C8-75CA-4606-B2AF-C18B01FC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FB97-20EF-4FF8-8286-98EC33A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B6CD-1540-4D73-BA4F-7D8B38D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3B1-2AA6-4735-8164-D67ABA69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8483-4C0C-43CD-9410-EAA3743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B7BA-5121-4DB6-9580-1FB080FE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B15F-98C0-4E1C-8599-BBE06696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33B0-3D20-4FA9-863E-4148536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DC37-8680-4CC6-9813-1A2A7CD9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2020-64A8-49F8-AE96-D239AA4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3C79-ACD3-4B35-A12C-330D245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F78C-C334-48A8-A88F-050CD560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4F2E-1901-4BA5-A564-B1D10DE5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175AF-883C-4140-BF2A-4C99248E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87F-3986-458A-9A68-D85FB35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7BBD-4BD7-4E46-AA9D-1DEB8AA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D12E-F33A-40EA-874D-9D8F75AE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58E4-69BB-4444-A812-74C18C0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FFCA-1FAF-4211-9569-75FD7CFA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049B-9D31-453F-B98E-7C1E6761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AEFD3-B073-482C-A3F3-FDAA1C6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1D4F-84B7-406D-90FB-C48D06FB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1D4D-9EFA-48FE-B275-83707AB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4038-9C0C-4CB1-AAF4-C8602AEE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B36D-8F1F-4C3C-A905-9DF1AE9C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33C-5D50-40F6-8909-569B6731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7251-5410-4D10-B071-55198B86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27D7-69E3-402A-AA78-A274751D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49049-ACA6-4E04-B8A5-1BC0A15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1F14-78F0-4479-A47D-AC8376F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2F73-007C-46FA-893D-E22A4DC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FC6D-5CE0-494F-B9DA-ACE83E55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B3992-E15A-4DF0-BA1A-5C1E55AC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E724-FFC9-47F5-B116-C4E37A3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1592-39C5-4AEF-A651-F3D311E2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45360-71B6-42A0-94A6-4979FCF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EC9-BF67-41D9-8CEE-4958A9C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24112-9DE6-4F04-9C0C-FDD4B20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0B74-9A2C-4578-A0FA-E35BD037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955C-80D4-469F-B919-BEE29829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063A-1E83-4461-9F14-C4F2A3B7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BE21-B65E-439E-BAE6-AA8C46CA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F7CB-8BF6-4A5C-A003-013CE2E5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7F27D-9B86-433D-99F9-ABEF25F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E2498-9D09-44DC-85AF-BA29F51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8FEF-0C11-421F-B66D-12966CF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BC43-EBAF-4137-8CC6-78D8B55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485-8B73-44A3-8D99-4BFAAF9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BD76-B73D-4C2A-A84A-179668C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7BCB-5303-4D69-A3F0-328548E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D9CE4-684E-4416-8138-1D490CB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8DE9-5232-44D0-8ABA-7ED16EAA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E70A-33BB-4FB0-9799-1B7555FD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6FA-89B8-4198-BF0F-DDD5495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CC9-2BEB-4FAD-97F9-8D43C265C2B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57AB-471E-4204-ABAA-BE1A224AB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CCAF-15DD-4E74-A08A-AE782C244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0880-5AA3-402E-8B40-3070C5E260A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AC2-6814-461D-B87C-5BFECE4EEB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732B-E15F-4104-99DF-AC0EA9FD404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196-6670-4E58-B1FA-493D367D840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rregular Pear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519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tholic Re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motional, exuberant… sens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rnini: The Ecstacy of St. Theres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7" name="Picture 2" descr="http://www.eyeconart.net/history/Baroque/BerniniEcstacy2.jpg"/>
          <p:cNvPicPr/>
          <p:nvPr/>
        </p:nvPicPr>
        <p:blipFill>
          <a:blip r:embed="rId2"/>
          <a:stretch/>
        </p:blipFill>
        <p:spPr>
          <a:xfrm>
            <a:off x="2743200" y="3079800"/>
            <a:ext cx="39625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28040" cy="12621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bc.edu/bc_org/avp/cas/artmuseum/exhibitions/archive/saints.jpg"/>
          <p:cNvPicPr/>
          <p:nvPr/>
        </p:nvPicPr>
        <p:blipFill>
          <a:blip r:embed="rId3"/>
          <a:stretch/>
        </p:blipFill>
        <p:spPr>
          <a:xfrm>
            <a:off x="1828800" y="2209680"/>
            <a:ext cx="59436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mbrandt – Blinding of Samps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http://www.shafe.co.uk/crystal/images/lshafe/Rembrandt_The_Blinding_of_Samson_1636.jpg"/>
          <p:cNvPicPr/>
          <p:nvPr/>
        </p:nvPicPr>
        <p:blipFill>
          <a:blip r:embed="rId2"/>
          <a:stretch/>
        </p:blipFill>
        <p:spPr>
          <a:xfrm>
            <a:off x="3251160" y="24382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6840" y="1774800"/>
            <a:ext cx="441972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idence of Prince-Bisho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urzburg, Germa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smarthistory.org/assets/images/images/Tiepolo-Residenz.jpg"/>
          <p:cNvPicPr/>
          <p:nvPr/>
        </p:nvPicPr>
        <p:blipFill>
          <a:blip r:embed="rId2"/>
          <a:stretch/>
        </p:blipFill>
        <p:spPr>
          <a:xfrm>
            <a:off x="4876920" y="1438200"/>
            <a:ext cx="4267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http://cache.virtualtourist.com/3911645-The_grounds_of_Schonbrunn_Palace-Vienna.jpg"/>
          <p:cNvPicPr/>
          <p:nvPr/>
        </p:nvPicPr>
        <p:blipFill>
          <a:blip r:embed="rId3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http://www.europeancastlestours.com/tours/bavaria/gallery/Nymphenburg_Aerial.jpg"/>
          <p:cNvPicPr/>
          <p:nvPr/>
        </p:nvPicPr>
        <p:blipFill>
          <a:blip r:embed="rId3"/>
          <a:stretch/>
        </p:blipFill>
        <p:spPr>
          <a:xfrm>
            <a:off x="1628640" y="1276200"/>
            <a:ext cx="75153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onsored by nobles/king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om, board, wages in return for masterful works that drew attention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sicians were high paid celebri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les, theory are consolid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ndeur, ceremonial, awe-inspi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ronations, fireworks, garden par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ch (Icon of Baroque, Germa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el (Stately music, Bri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valdi (Italia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31800" indent="-51444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ully (Ballets for Sun King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4:59:43Z</dcterms:created>
  <dc:creator>Kuenzi</dc:creator>
  <dc:description/>
  <dc:language>en-US</dc:language>
  <cp:lastModifiedBy>Kuenzi</cp:lastModifiedBy>
  <dcterms:modified xsi:type="dcterms:W3CDTF">2010-11-22T05:24:26Z</dcterms:modified>
  <cp:revision>4</cp:revision>
  <dc:subject/>
  <dc:title>Baroque</dc:title>
</cp:coreProperties>
</file>